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D6EE-DD09-499D-9B06-6E804F304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D850-A3B6-4D76-B66B-7179E209C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7D1D-F112-454E-90AC-E95B73AFE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A588-86EC-4EB8-A3C0-78EB8602D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83B6-F6C6-44F4-ACEB-CCA0401D2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CB5D-9CA3-4FCA-A7BA-4C7CD45F9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E8C6-794B-4BC7-A84C-A2042C654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5A1B-86AC-44F8-85BE-8B27E56B4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E781-9260-4D83-A6D6-C38E5F504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158D-578A-456B-8E2B-A942C746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CF7D-6C12-4726-9C9F-622B4484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AC7B-96F8-4726-946C-F798942E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EB4EA-2C1D-4768-9177-778F4C90C4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28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CUMBERNAULD                           CUMBERNAULD                              DUMBARTON                                          DUNDEE                                          DUNDEE                                            DY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997360"/>
            <a:ext cx="10066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AST  FIFE                                        EAST  FIFE                                   EAST  FIFE  25TH                            EAST  KILBRIDE                                 EAST  LOTHIAN                              EDINBURGH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9676800" y="2811600"/>
            <a:ext cx="759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65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ELGIN                                            ELGIN                                                   FALKIRK                                            FALKIRK                                             FALKIRK                                          FINT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3244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FINTRY                                FRASERBURGH                                       GALLEON                                               GALLEON                                        GARIOCH                                     GLASG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928880" y="115920"/>
            <a:ext cx="1315800" cy="1206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513240" y="0"/>
            <a:ext cx="1116000" cy="1252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168880" y="0"/>
            <a:ext cx="1006560" cy="1325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6681960" y="115920"/>
            <a:ext cx="969840" cy="1243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8121600" y="115920"/>
            <a:ext cx="1042920" cy="1179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488880" y="1628640"/>
            <a:ext cx="1243080" cy="1325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3584520" y="1700280"/>
            <a:ext cx="1116000" cy="1266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5097600" y="1916280"/>
            <a:ext cx="1096920" cy="1047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6681960" y="1916280"/>
            <a:ext cx="1133280" cy="1096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0"/>
          <a:stretch/>
        </p:blipFill>
        <p:spPr>
          <a:xfrm>
            <a:off x="8048520" y="1844640"/>
            <a:ext cx="1206720" cy="1143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1"/>
          <a:stretch/>
        </p:blipFill>
        <p:spPr>
          <a:xfrm>
            <a:off x="488880" y="3645000"/>
            <a:ext cx="1079640" cy="1060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2"/>
          <a:stretch/>
        </p:blipFill>
        <p:spPr>
          <a:xfrm>
            <a:off x="1928880" y="3716280"/>
            <a:ext cx="1023840" cy="924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3"/>
          <a:stretch/>
        </p:blipFill>
        <p:spPr>
          <a:xfrm>
            <a:off x="3584520" y="3573360"/>
            <a:ext cx="987480" cy="10479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4"/>
          <a:stretch/>
        </p:blipFill>
        <p:spPr>
          <a:xfrm>
            <a:off x="5024520" y="3357720"/>
            <a:ext cx="1243080" cy="13032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5"/>
          <a:stretch/>
        </p:blipFill>
        <p:spPr>
          <a:xfrm>
            <a:off x="6608880" y="3357720"/>
            <a:ext cx="1189080" cy="1279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6"/>
          <a:stretch/>
        </p:blipFill>
        <p:spPr>
          <a:xfrm>
            <a:off x="8121600" y="3573360"/>
            <a:ext cx="1096920" cy="1106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7"/>
          <a:stretch/>
        </p:blipFill>
        <p:spPr>
          <a:xfrm>
            <a:off x="560520" y="5373720"/>
            <a:ext cx="1023840" cy="9968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8"/>
          <a:stretch/>
        </p:blipFill>
        <p:spPr>
          <a:xfrm>
            <a:off x="1928880" y="5300640"/>
            <a:ext cx="1023840" cy="1033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9"/>
          <a:stretch/>
        </p:blipFill>
        <p:spPr>
          <a:xfrm>
            <a:off x="3513240" y="5084640"/>
            <a:ext cx="1116000" cy="1243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0"/>
          <a:stretch/>
        </p:blipFill>
        <p:spPr>
          <a:xfrm>
            <a:off x="6681960" y="5300640"/>
            <a:ext cx="1060200" cy="10238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1"/>
          <a:stretch/>
        </p:blipFill>
        <p:spPr>
          <a:xfrm>
            <a:off x="8121600" y="5157720"/>
            <a:ext cx="1042920" cy="1179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2"/>
          <a:stretch/>
        </p:blipFill>
        <p:spPr>
          <a:xfrm>
            <a:off x="2000160" y="1628640"/>
            <a:ext cx="1243080" cy="1339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376880" y="0"/>
            <a:ext cx="165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OO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3"/>
          <a:stretch/>
        </p:blipFill>
        <p:spPr>
          <a:xfrm>
            <a:off x="560520" y="260280"/>
            <a:ext cx="1060200" cy="1047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4"/>
          <a:stretch/>
        </p:blipFill>
        <p:spPr>
          <a:xfrm>
            <a:off x="5240160" y="5084640"/>
            <a:ext cx="9813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8T15:41:59Z</dcterms:created>
  <dc:creator>John Young</dc:creator>
  <dc:description/>
  <dc:language>en-US</dc:language>
  <cp:lastModifiedBy>JY</cp:lastModifiedBy>
  <dcterms:modified xsi:type="dcterms:W3CDTF">2008-01-05T12:10:40Z</dcterms:modified>
  <cp:revision>17</cp:revision>
  <dc:subject/>
  <dc:title>No Slide Title</dc:title>
</cp:coreProperties>
</file>